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9E5-4800-4C4E-9614-CD3C81E2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ED0-F3CB-45CA-90FD-45597F00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C9E-DD4F-4449-A67F-91A4ED16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5DD-B906-4BD6-B419-197802F4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14AE-938C-4D9C-ADDB-E4C36F5B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245C-DC35-4172-930A-627F6D38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EF6C-0F2C-4334-A43A-3742107D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F3DA-5D7D-44FC-93A0-2DA0F833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FDC8-5E3C-44CC-86F3-6B3C2F36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3F12-78DC-4F13-B9CF-49014567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08B8-4D2B-41BC-9CEB-F3BEDFCB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1F85-5D45-4668-A975-5C02F44D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AC61-4A3A-4438-9698-8A86E07D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D16F-946D-4BA5-8AD6-B8BB026D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50AF-ED59-4C15-B67B-F26679FB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F410-CEB5-4F83-AF46-74EFB4C6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F5CE-348F-43AB-8AC9-99B4E037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5E4-6BCE-40FE-97FA-28E2E1E2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CF7D-B3C0-42FA-82E1-3338046C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BD3-0DED-4CF5-8734-B5F10E7F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43A-7F10-440F-A10F-399D0A09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C8F-B50D-48F2-9394-10537584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96E-A7E3-4550-A9D3-CB4A9B8B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046-9A4A-4478-8498-6F62813F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BC89-0399-4416-A116-553AFE98E7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B283-5046-4DBB-94DF-F35889F638B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bc.co.uk/schools/wordsandpictures/hfwords/starwords/index.shtml" TargetMode="External"/><Relationship Id="rId2" Type="http://schemas.openxmlformats.org/officeDocument/2006/relationships/image" Target="../media/image3.wmf"/><Relationship Id="rId3" Type="http://schemas.openxmlformats.org/officeDocument/2006/relationships/slide" Target="slide2.xml"/><Relationship Id="rId4" Type="http://schemas.openxmlformats.org/officeDocument/2006/relationships/hyperlink" Target="http://www.starfall.com/n/me/me/load.htm?f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hyperlink" Target="http://www.ictgames.com/safecracker.html" TargetMode="External"/><Relationship Id="rId4" Type="http://schemas.openxmlformats.org/officeDocument/2006/relationships/hyperlink" Target="http://www.ictgames.com/spacejumps.html" TargetMode="External"/><Relationship Id="rId5" Type="http://schemas.openxmlformats.org/officeDocument/2006/relationships/slide" Target="slide2.xml"/><Relationship Id="rId6" Type="http://schemas.openxmlformats.org/officeDocument/2006/relationships/image" Target="../media/image6.wmf"/><Relationship Id="rId7" Type="http://schemas.openxmlformats.org/officeDocument/2006/relationships/hyperlink" Target="http://www.bbc.co.uk/schools/laac/numbers/ch3.shtml" TargetMode="External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ictgames.com/plankgame.html" TargetMode="External"/><Relationship Id="rId3" Type="http://schemas.openxmlformats.org/officeDocument/2006/relationships/hyperlink" Target="http://www.harcourtschool.com/activity/word_builder/level2/2_01.html" TargetMode="External"/><Relationship Id="rId4" Type="http://schemas.openxmlformats.org/officeDocument/2006/relationships/hyperlink" Target="http://www.ictgames.com/dinosaurwordsrepeat.html" TargetMode="External"/><Relationship Id="rId5" Type="http://schemas.openxmlformats.org/officeDocument/2006/relationships/image" Target="../media/image8.wm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328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Year 2 </a:t>
            </a:r>
            <a:br>
              <a:rPr sz="4800"/>
            </a:b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Digital Learning Centr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4149720"/>
            <a:ext cx="5113440" cy="865080"/>
          </a:xfrm>
          <a:custGeom>
            <a:avLst/>
            <a:gdLst>
              <a:gd name="textAreaLeft" fmla="*/ 0 w 5113440"/>
              <a:gd name="textAreaRight" fmla="*/ 5113800 w 511344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00720" y="658332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00cc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dff"/>
                </a:solidFill>
                <a:latin typeface="Comic Sans MS"/>
              </a:rPr>
              <a:t>Home Pag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796000" y="4076640"/>
            <a:ext cx="2801880" cy="201312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2268360" y="2421000"/>
            <a:ext cx="1152720" cy="1008000"/>
          </a:xfrm>
          <a:custGeom>
            <a:avLst/>
            <a:gdLst>
              <a:gd name="textAreaLeft" fmla="*/ 65160 w 1152720"/>
              <a:gd name="textAreaRight" fmla="*/ 1087560 w 1152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700" h="21600">
                <a:moveTo>
                  <a:pt x="0" y="0"/>
                </a:moveTo>
                <a:lnTo>
                  <a:pt x="24700" y="0"/>
                </a:lnTo>
                <a:lnTo>
                  <a:pt x="24700" y="21600"/>
                </a:lnTo>
                <a:lnTo>
                  <a:pt x="0" y="21600"/>
                </a:lnTo>
                <a:close/>
              </a:path>
              <a:path fill="lightenLess" w="24700" h="21600">
                <a:moveTo>
                  <a:pt x="0" y="0"/>
                </a:moveTo>
                <a:lnTo>
                  <a:pt x="24700" y="0"/>
                </a:lnTo>
                <a:lnTo>
                  <a:pt x="23300" y="1400"/>
                </a:lnTo>
                <a:lnTo>
                  <a:pt x="1400" y="1400"/>
                </a:lnTo>
                <a:close/>
              </a:path>
              <a:path fill="darken" w="24700" h="21600">
                <a:moveTo>
                  <a:pt x="24700" y="0"/>
                </a:moveTo>
                <a:lnTo>
                  <a:pt x="24700" y="21600"/>
                </a:lnTo>
                <a:lnTo>
                  <a:pt x="23300" y="20200"/>
                </a:lnTo>
                <a:lnTo>
                  <a:pt x="23300" y="1400"/>
                </a:lnTo>
                <a:close/>
              </a:path>
              <a:path fill="darkenLess" w="24700" h="21600">
                <a:moveTo>
                  <a:pt x="24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0" y="20200"/>
                </a:lnTo>
                <a:close/>
              </a:path>
              <a:path fill="lighten" w="24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2268360" y="3645000"/>
            <a:ext cx="1151280" cy="936360"/>
          </a:xfrm>
          <a:custGeom>
            <a:avLst/>
            <a:gdLst>
              <a:gd name="textAreaLeft" fmla="*/ 60480 w 1151280"/>
              <a:gd name="textAreaRight" fmla="*/ 1090800 w 115128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26556" h="21600">
                <a:moveTo>
                  <a:pt x="0" y="0"/>
                </a:moveTo>
                <a:lnTo>
                  <a:pt x="26556" y="0"/>
                </a:lnTo>
                <a:lnTo>
                  <a:pt x="26556" y="21600"/>
                </a:lnTo>
                <a:lnTo>
                  <a:pt x="0" y="21600"/>
                </a:lnTo>
                <a:close/>
              </a:path>
              <a:path fill="lightenLess" w="26556" h="21600">
                <a:moveTo>
                  <a:pt x="0" y="0"/>
                </a:moveTo>
                <a:lnTo>
                  <a:pt x="26556" y="0"/>
                </a:lnTo>
                <a:lnTo>
                  <a:pt x="25156" y="1400"/>
                </a:lnTo>
                <a:lnTo>
                  <a:pt x="1400" y="1400"/>
                </a:lnTo>
                <a:close/>
              </a:path>
              <a:path fill="darken" w="26556" h="21600">
                <a:moveTo>
                  <a:pt x="26556" y="0"/>
                </a:moveTo>
                <a:lnTo>
                  <a:pt x="26556" y="21600"/>
                </a:lnTo>
                <a:lnTo>
                  <a:pt x="25156" y="20200"/>
                </a:lnTo>
                <a:lnTo>
                  <a:pt x="25156" y="1400"/>
                </a:lnTo>
                <a:close/>
              </a:path>
              <a:path fill="darkenLess" w="26556" h="21600">
                <a:moveTo>
                  <a:pt x="26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56" y="20200"/>
                </a:lnTo>
                <a:close/>
              </a:path>
              <a:path fill="lighten" w="26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2268360" y="4797360"/>
            <a:ext cx="1151280" cy="936720"/>
          </a:xfrm>
          <a:custGeom>
            <a:avLst/>
            <a:gdLst>
              <a:gd name="textAreaLeft" fmla="*/ 60480 w 1151280"/>
              <a:gd name="textAreaRight" fmla="*/ 1090800 w 11512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6546" h="21600">
                <a:moveTo>
                  <a:pt x="0" y="0"/>
                </a:moveTo>
                <a:lnTo>
                  <a:pt x="26546" y="0"/>
                </a:lnTo>
                <a:lnTo>
                  <a:pt x="26546" y="21600"/>
                </a:lnTo>
                <a:lnTo>
                  <a:pt x="0" y="21600"/>
                </a:lnTo>
                <a:close/>
              </a:path>
              <a:path fill="lightenLess" w="26546" h="21600">
                <a:moveTo>
                  <a:pt x="0" y="0"/>
                </a:moveTo>
                <a:lnTo>
                  <a:pt x="26546" y="0"/>
                </a:lnTo>
                <a:lnTo>
                  <a:pt x="25146" y="1400"/>
                </a:lnTo>
                <a:lnTo>
                  <a:pt x="1400" y="1400"/>
                </a:lnTo>
                <a:close/>
              </a:path>
              <a:path fill="darken" w="26546" h="21600">
                <a:moveTo>
                  <a:pt x="26546" y="0"/>
                </a:moveTo>
                <a:lnTo>
                  <a:pt x="26546" y="21600"/>
                </a:lnTo>
                <a:lnTo>
                  <a:pt x="25146" y="20200"/>
                </a:lnTo>
                <a:lnTo>
                  <a:pt x="25146" y="1400"/>
                </a:lnTo>
                <a:close/>
              </a:path>
              <a:path fill="darkenLess" w="26546" h="21600">
                <a:moveTo>
                  <a:pt x="26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6" y="20200"/>
                </a:lnTo>
                <a:close/>
              </a:path>
              <a:path fill="lighten" w="26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8360" y="2133720"/>
            <a:ext cx="28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645000"/>
            <a:ext cx="31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M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56536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4869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867280" y="1916280"/>
            <a:ext cx="1844640" cy="1831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300720" y="661032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50000">
              <a:srgbClr val="ffffff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dff"/>
                </a:solidFill>
                <a:latin typeface="Comic Sans MS"/>
              </a:rPr>
              <a:t>Reading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2852640"/>
            <a:ext cx="936360" cy="93672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1600" h="21608">
                <a:moveTo>
                  <a:pt x="0" y="0"/>
                </a:moveTo>
                <a:lnTo>
                  <a:pt x="21600" y="0"/>
                </a:lnTo>
                <a:lnTo>
                  <a:pt x="21600" y="21608"/>
                </a:lnTo>
                <a:lnTo>
                  <a:pt x="0" y="21608"/>
                </a:lnTo>
                <a:close/>
              </a:path>
              <a:path fill="lightenLess" w="21600" h="216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8">
                <a:moveTo>
                  <a:pt x="21600" y="0"/>
                </a:moveTo>
                <a:lnTo>
                  <a:pt x="21600" y="21608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8">
                <a:moveTo>
                  <a:pt x="21600" y="21608"/>
                </a:moveTo>
                <a:lnTo>
                  <a:pt x="0" y="21608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8">
                <a:moveTo>
                  <a:pt x="0" y="216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3933720"/>
            <a:ext cx="936360" cy="93528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"/>
          </p:cNvPr>
          <p:cNvSpPr/>
          <p:nvPr/>
        </p:nvSpPr>
        <p:spPr>
          <a:xfrm>
            <a:off x="1835280" y="1773360"/>
            <a:ext cx="936360" cy="863640"/>
          </a:xfrm>
          <a:custGeom>
            <a:avLst/>
            <a:gdLst>
              <a:gd name="textAreaLeft" fmla="*/ 55800 w 936360"/>
              <a:gd name="textAreaRight" fmla="*/ 880560 w 93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18" h="21600">
                <a:moveTo>
                  <a:pt x="0" y="0"/>
                </a:moveTo>
                <a:lnTo>
                  <a:pt x="23418" y="0"/>
                </a:lnTo>
                <a:lnTo>
                  <a:pt x="23418" y="21600"/>
                </a:lnTo>
                <a:lnTo>
                  <a:pt x="0" y="21600"/>
                </a:lnTo>
                <a:close/>
              </a:path>
              <a:path fill="lightenLess" w="23418" h="21600">
                <a:moveTo>
                  <a:pt x="0" y="0"/>
                </a:moveTo>
                <a:lnTo>
                  <a:pt x="23418" y="0"/>
                </a:lnTo>
                <a:lnTo>
                  <a:pt x="22018" y="1400"/>
                </a:lnTo>
                <a:lnTo>
                  <a:pt x="1400" y="1400"/>
                </a:lnTo>
                <a:close/>
              </a:path>
              <a:path fill="darken" w="23418" h="21600">
                <a:moveTo>
                  <a:pt x="23418" y="0"/>
                </a:moveTo>
                <a:lnTo>
                  <a:pt x="23418" y="21600"/>
                </a:lnTo>
                <a:lnTo>
                  <a:pt x="22018" y="20200"/>
                </a:lnTo>
                <a:lnTo>
                  <a:pt x="22018" y="1400"/>
                </a:lnTo>
                <a:close/>
              </a:path>
              <a:path fill="darkenLess" w="23418" h="21600">
                <a:moveTo>
                  <a:pt x="23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8" y="20200"/>
                </a:lnTo>
                <a:close/>
              </a:path>
              <a:path fill="lighten" w="23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1844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ar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2924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ord 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4076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ord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40360" y="2708280"/>
            <a:ext cx="2808360" cy="2651040"/>
          </a:xfrm>
          <a:prstGeom prst="rect">
            <a:avLst/>
          </a:prstGeom>
          <a:ln w="0">
            <a:noFill/>
          </a:ln>
        </p:spPr>
      </p:pic>
      <p:sp>
        <p:nvSpPr>
          <p:cNvPr id="173" name="">
            <a:hlinkClick r:id="rId3" action="ppaction://hlinksldjump"/>
          </p:cNvPr>
          <p:cNvSpPr/>
          <p:nvPr/>
        </p:nvSpPr>
        <p:spPr>
          <a:xfrm>
            <a:off x="7380360" y="5589720"/>
            <a:ext cx="863640" cy="93492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34920"/>
              <a:gd name="textAreaBottom" fmla="*/ 879120 h 934920"/>
            </a:gdLst>
            <a:ahLst/>
            <a:rect l="textAreaLeft" t="textAreaTop" r="textAreaRight" b="textAreaBottom"/>
            <a:pathLst>
              <a:path w="21600" h="23382">
                <a:moveTo>
                  <a:pt x="0" y="0"/>
                </a:moveTo>
                <a:lnTo>
                  <a:pt x="21600" y="0"/>
                </a:lnTo>
                <a:lnTo>
                  <a:pt x="21600" y="23382"/>
                </a:lnTo>
                <a:lnTo>
                  <a:pt x="0" y="23382"/>
                </a:lnTo>
                <a:close/>
              </a:path>
              <a:path fill="lightenLess" w="21600" h="233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82">
                <a:moveTo>
                  <a:pt x="21600" y="0"/>
                </a:moveTo>
                <a:lnTo>
                  <a:pt x="21600" y="23382"/>
                </a:lnTo>
                <a:lnTo>
                  <a:pt x="20200" y="21982"/>
                </a:lnTo>
                <a:lnTo>
                  <a:pt x="20200" y="1400"/>
                </a:lnTo>
                <a:close/>
              </a:path>
              <a:path fill="darkenLess" w="21600" h="23382">
                <a:moveTo>
                  <a:pt x="21600" y="23382"/>
                </a:moveTo>
                <a:lnTo>
                  <a:pt x="0" y="23382"/>
                </a:lnTo>
                <a:lnTo>
                  <a:pt x="1400" y="21982"/>
                </a:lnTo>
                <a:lnTo>
                  <a:pt x="20200" y="21982"/>
                </a:lnTo>
                <a:close/>
              </a:path>
              <a:path fill="lighten" w="21600" h="23382">
                <a:moveTo>
                  <a:pt x="0" y="233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82"/>
                </a:lnTo>
                <a:close/>
              </a:path>
              <a:path fill="darken" w="21600" h="23382">
                <a:moveTo>
                  <a:pt x="10800" y="4728"/>
                </a:moveTo>
                <a:lnTo>
                  <a:pt x="13376" y="7339"/>
                </a:lnTo>
                <a:lnTo>
                  <a:pt x="13376" y="5598"/>
                </a:lnTo>
                <a:lnTo>
                  <a:pt x="15152" y="5598"/>
                </a:lnTo>
                <a:lnTo>
                  <a:pt x="15152" y="9115"/>
                </a:lnTo>
                <a:lnTo>
                  <a:pt x="17763" y="11691"/>
                </a:lnTo>
                <a:lnTo>
                  <a:pt x="16109" y="11691"/>
                </a:lnTo>
                <a:lnTo>
                  <a:pt x="16109" y="18880"/>
                </a:lnTo>
                <a:lnTo>
                  <a:pt x="5491" y="18880"/>
                </a:lnTo>
                <a:lnTo>
                  <a:pt x="5491" y="11691"/>
                </a:lnTo>
                <a:lnTo>
                  <a:pt x="3837" y="11691"/>
                </a:lnTo>
                <a:close/>
              </a:path>
              <a:path fill="darkenLess" w="21600" h="23382">
                <a:moveTo>
                  <a:pt x="13376" y="7339"/>
                </a:moveTo>
                <a:lnTo>
                  <a:pt x="13376" y="5598"/>
                </a:lnTo>
                <a:lnTo>
                  <a:pt x="15152" y="5598"/>
                </a:lnTo>
                <a:lnTo>
                  <a:pt x="15152" y="9115"/>
                </a:lnTo>
                <a:close/>
              </a:path>
              <a:path fill="darkenLess" w="21600" h="23382">
                <a:moveTo>
                  <a:pt x="9877" y="15190"/>
                </a:moveTo>
                <a:lnTo>
                  <a:pt x="11723" y="15190"/>
                </a:lnTo>
                <a:lnTo>
                  <a:pt x="11723" y="18880"/>
                </a:lnTo>
                <a:lnTo>
                  <a:pt x="16109" y="18880"/>
                </a:lnTo>
                <a:lnTo>
                  <a:pt x="16109" y="11691"/>
                </a:lnTo>
                <a:lnTo>
                  <a:pt x="5491" y="11691"/>
                </a:lnTo>
                <a:lnTo>
                  <a:pt x="5491" y="18880"/>
                </a:lnTo>
                <a:lnTo>
                  <a:pt x="9877" y="1888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4"/>
          </p:cNvPr>
          <p:cNvSpPr/>
          <p:nvPr/>
        </p:nvSpPr>
        <p:spPr>
          <a:xfrm>
            <a:off x="1835280" y="5084640"/>
            <a:ext cx="936360" cy="93528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51577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o am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661032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dff"/>
                </a:solidFill>
                <a:latin typeface="Comic Sans MS"/>
              </a:rPr>
              <a:t>Math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724360" y="333360"/>
            <a:ext cx="2189160" cy="2006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659640" y="3068640"/>
            <a:ext cx="1119240" cy="1752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35280" y="198900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3"/>
          </p:cNvPr>
          <p:cNvSpPr/>
          <p:nvPr/>
        </p:nvSpPr>
        <p:spPr>
          <a:xfrm>
            <a:off x="1835280" y="306864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4"/>
          </p:cNvPr>
          <p:cNvSpPr/>
          <p:nvPr/>
        </p:nvSpPr>
        <p:spPr>
          <a:xfrm>
            <a:off x="1835280" y="4149720"/>
            <a:ext cx="865080" cy="71928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1916280"/>
            <a:ext cx="38876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Save the Wh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Number bonds to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3068640"/>
            <a:ext cx="36734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Safe Cr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Know simple addition facts up to 9+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1640" y="4149720"/>
            <a:ext cx="40323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Space Jump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dding by bridging through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5" action="ppaction://hlinksldjump"/>
          </p:cNvPr>
          <p:cNvSpPr/>
          <p:nvPr/>
        </p:nvSpPr>
        <p:spPr>
          <a:xfrm>
            <a:off x="7236000" y="5516640"/>
            <a:ext cx="1081080" cy="865080"/>
          </a:xfrm>
          <a:custGeom>
            <a:avLst/>
            <a:gdLst>
              <a:gd name="textAreaLeft" fmla="*/ 55800 w 1081080"/>
              <a:gd name="textAreaRight" fmla="*/ 1025280 w 10810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26991" h="21600">
                <a:moveTo>
                  <a:pt x="0" y="0"/>
                </a:moveTo>
                <a:lnTo>
                  <a:pt x="26991" y="0"/>
                </a:lnTo>
                <a:lnTo>
                  <a:pt x="26991" y="21600"/>
                </a:lnTo>
                <a:lnTo>
                  <a:pt x="0" y="21600"/>
                </a:lnTo>
                <a:close/>
              </a:path>
              <a:path fill="lightenLess" w="26991" h="21600">
                <a:moveTo>
                  <a:pt x="0" y="0"/>
                </a:moveTo>
                <a:lnTo>
                  <a:pt x="26991" y="0"/>
                </a:lnTo>
                <a:lnTo>
                  <a:pt x="25591" y="1400"/>
                </a:lnTo>
                <a:lnTo>
                  <a:pt x="1400" y="1400"/>
                </a:lnTo>
                <a:close/>
              </a:path>
              <a:path fill="darken" w="26991" h="21600">
                <a:moveTo>
                  <a:pt x="26991" y="0"/>
                </a:moveTo>
                <a:lnTo>
                  <a:pt x="26991" y="21600"/>
                </a:lnTo>
                <a:lnTo>
                  <a:pt x="25591" y="20200"/>
                </a:lnTo>
                <a:lnTo>
                  <a:pt x="25591" y="1400"/>
                </a:lnTo>
                <a:close/>
              </a:path>
              <a:path fill="darkenLess" w="26991" h="21600">
                <a:moveTo>
                  <a:pt x="26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1" y="20200"/>
                </a:lnTo>
                <a:close/>
              </a:path>
              <a:path fill="lighten" w="26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1" h="21600">
                <a:moveTo>
                  <a:pt x="13496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5" y="10800"/>
                </a:lnTo>
                <a:lnTo>
                  <a:pt x="18805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3" y="10800"/>
                </a:lnTo>
                <a:close/>
              </a:path>
              <a:path fill="darkenLess" w="26991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1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5" y="17989"/>
                </a:lnTo>
                <a:lnTo>
                  <a:pt x="18805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395280" y="981000"/>
            <a:ext cx="168912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rId7"/>
          </p:cNvPr>
          <p:cNvSpPr/>
          <p:nvPr/>
        </p:nvSpPr>
        <p:spPr>
          <a:xfrm>
            <a:off x="1835280" y="5157720"/>
            <a:ext cx="865080" cy="71928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43280" y="5157720"/>
            <a:ext cx="40323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Ladybug set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dding and subtracting to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00720" y="658332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Spelling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1914840" cy="152388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rId2"/>
          </p:cNvPr>
          <p:cNvSpPr/>
          <p:nvPr/>
        </p:nvSpPr>
        <p:spPr>
          <a:xfrm>
            <a:off x="1908000" y="2133720"/>
            <a:ext cx="865440" cy="71892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6000" h="21600">
                <a:moveTo>
                  <a:pt x="0" y="0"/>
                </a:moveTo>
                <a:lnTo>
                  <a:pt x="26000" y="0"/>
                </a:lnTo>
                <a:lnTo>
                  <a:pt x="26000" y="21600"/>
                </a:lnTo>
                <a:lnTo>
                  <a:pt x="0" y="21600"/>
                </a:lnTo>
                <a:close/>
              </a:path>
              <a:path fill="lightenLess" w="26000" h="21600">
                <a:moveTo>
                  <a:pt x="0" y="0"/>
                </a:moveTo>
                <a:lnTo>
                  <a:pt x="26000" y="0"/>
                </a:lnTo>
                <a:lnTo>
                  <a:pt x="24600" y="1400"/>
                </a:lnTo>
                <a:lnTo>
                  <a:pt x="1400" y="1400"/>
                </a:lnTo>
                <a:close/>
              </a:path>
              <a:path fill="darken" w="26000" h="21600">
                <a:moveTo>
                  <a:pt x="26000" y="0"/>
                </a:moveTo>
                <a:lnTo>
                  <a:pt x="26000" y="21600"/>
                </a:lnTo>
                <a:lnTo>
                  <a:pt x="24600" y="20200"/>
                </a:lnTo>
                <a:lnTo>
                  <a:pt x="24600" y="1400"/>
                </a:lnTo>
                <a:close/>
              </a:path>
              <a:path fill="darkenLess" w="26000" h="21600">
                <a:moveTo>
                  <a:pt x="2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0" y="20200"/>
                </a:lnTo>
                <a:close/>
              </a:path>
              <a:path fill="lighten" w="2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2133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Walk the P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3"/>
          </p:cNvPr>
          <p:cNvSpPr/>
          <p:nvPr/>
        </p:nvSpPr>
        <p:spPr>
          <a:xfrm>
            <a:off x="1908000" y="3068640"/>
            <a:ext cx="865440" cy="72072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935" h="21600">
                <a:moveTo>
                  <a:pt x="0" y="0"/>
                </a:moveTo>
                <a:lnTo>
                  <a:pt x="25935" y="0"/>
                </a:lnTo>
                <a:lnTo>
                  <a:pt x="25935" y="21600"/>
                </a:lnTo>
                <a:lnTo>
                  <a:pt x="0" y="21600"/>
                </a:lnTo>
                <a:close/>
              </a:path>
              <a:path fill="lightenLess" w="25935" h="21600">
                <a:moveTo>
                  <a:pt x="0" y="0"/>
                </a:moveTo>
                <a:lnTo>
                  <a:pt x="25935" y="0"/>
                </a:lnTo>
                <a:lnTo>
                  <a:pt x="24535" y="1400"/>
                </a:lnTo>
                <a:lnTo>
                  <a:pt x="1400" y="1400"/>
                </a:lnTo>
                <a:close/>
              </a:path>
              <a:path fill="darken" w="25935" h="21600">
                <a:moveTo>
                  <a:pt x="25935" y="0"/>
                </a:moveTo>
                <a:lnTo>
                  <a:pt x="25935" y="21600"/>
                </a:lnTo>
                <a:lnTo>
                  <a:pt x="24535" y="20200"/>
                </a:lnTo>
                <a:lnTo>
                  <a:pt x="24535" y="1400"/>
                </a:lnTo>
                <a:close/>
              </a:path>
              <a:path fill="darkenLess" w="25935" h="21600">
                <a:moveTo>
                  <a:pt x="25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5" y="20200"/>
                </a:lnTo>
                <a:close/>
              </a:path>
              <a:path fill="lighten" w="25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3280" y="30686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Word builder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4"/>
          </p:cNvPr>
          <p:cNvSpPr/>
          <p:nvPr/>
        </p:nvSpPr>
        <p:spPr>
          <a:xfrm>
            <a:off x="1908000" y="4797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16360" y="479736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Dinosaur Word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084720" y="692280"/>
            <a:ext cx="1752840" cy="189072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rId6" action="ppaction://hlinksldjump"/>
          </p:cNvPr>
          <p:cNvSpPr/>
          <p:nvPr/>
        </p:nvSpPr>
        <p:spPr>
          <a:xfrm>
            <a:off x="7524720" y="5805360"/>
            <a:ext cx="792360" cy="7923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3933720"/>
            <a:ext cx="865440" cy="72072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935" h="21600">
                <a:moveTo>
                  <a:pt x="0" y="0"/>
                </a:moveTo>
                <a:lnTo>
                  <a:pt x="25935" y="0"/>
                </a:lnTo>
                <a:lnTo>
                  <a:pt x="25935" y="21600"/>
                </a:lnTo>
                <a:lnTo>
                  <a:pt x="0" y="21600"/>
                </a:lnTo>
                <a:close/>
              </a:path>
              <a:path fill="lightenLess" w="25935" h="21600">
                <a:moveTo>
                  <a:pt x="0" y="0"/>
                </a:moveTo>
                <a:lnTo>
                  <a:pt x="25935" y="0"/>
                </a:lnTo>
                <a:lnTo>
                  <a:pt x="24535" y="1400"/>
                </a:lnTo>
                <a:lnTo>
                  <a:pt x="1400" y="1400"/>
                </a:lnTo>
                <a:close/>
              </a:path>
              <a:path fill="darken" w="25935" h="21600">
                <a:moveTo>
                  <a:pt x="25935" y="0"/>
                </a:moveTo>
                <a:lnTo>
                  <a:pt x="25935" y="21600"/>
                </a:lnTo>
                <a:lnTo>
                  <a:pt x="24535" y="20200"/>
                </a:lnTo>
                <a:lnTo>
                  <a:pt x="24535" y="1400"/>
                </a:lnTo>
                <a:close/>
              </a:path>
              <a:path fill="darkenLess" w="25935" h="21600">
                <a:moveTo>
                  <a:pt x="25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5" y="20200"/>
                </a:lnTo>
                <a:close/>
              </a:path>
              <a:path fill="lighten" w="25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87640" y="400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Abc order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00720" y="658332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reated by justine@bbps.school.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4:35:10Z</dcterms:created>
  <dc:creator>Gunn</dc:creator>
  <dc:description/>
  <dc:language>en-US</dc:language>
  <cp:lastModifiedBy>lindal</cp:lastModifiedBy>
  <dcterms:modified xsi:type="dcterms:W3CDTF">2007-05-10T14:07:15Z</dcterms:modified>
  <cp:revision>21</cp:revision>
  <dc:subject/>
  <dc:title>Year 1 and 2  Digital Learning Centre</dc:title>
</cp:coreProperties>
</file>